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1749-5F00-4407-8A02-30E183B5C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hortage of ambition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73E-F19A-4393-BB19-8B54CF8F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6D8-8E16-4BAA-AFB2-57B7E460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045-7854-4BB8-BF1B-6FA5B240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344-E83F-4E84-931C-361FDF17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E27-40D4-491D-A6D6-280CFE06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D41-B072-4AB1-93D9-2FA651E7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FB7-6239-4EE3-8CE8-E688C23B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FAF-92EA-4835-BEF0-48632098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0CC-0278-4DA3-A21E-BB3E0DE9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575-7F70-4736-9190-212075FE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9EF-6EB7-4AFA-A273-51E2A13B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FD1-6419-44C4-BCC9-062C7BF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F88A-CD07-45FB-ADE6-5925778951B4}" type="datetime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88C47F21-3045-4E93-8A95-80579CFE4572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FABRIC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rst year progress repor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ib van Langevelde, J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105520"/>
            <a:ext cx="4419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467840" cy="603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96080" y="243828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2.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PS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019-F3F3-4014-8F3B-99D015A8831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65736-0918-45F6-B519-71388E9A8F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oftware correlato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4038480" cy="2854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able software cor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 computer en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en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with special purpose algorithm for Huygens 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eme high spectral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for future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better signal to noise performance than 2-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ing astronomy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transferred to standard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s on cluster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not yet optim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226548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5105520" y="228600"/>
            <a:ext cx="129528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2.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22A-92D3-44B6-8427-E56D581362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8B0B2-84F9-47D1-9D16-4341A06454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790960" cy="43419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lator cor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228600"/>
            <a:ext cx="129528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2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5562360" cy="4186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371600" y="1676520"/>
            <a:ext cx="6095880" cy="45720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209680" y="1905120"/>
            <a:ext cx="5948640" cy="419724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636-DC87-4D99-9184-823DD5F326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E53B5-122D-4822-A332-5ECA7719F2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18520" indent="-21852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project with &gt;30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2464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7 institutes and &gt;4 disci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0">
              <a:buNone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2464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-off meeting in Dwingeloo 22 Ma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meeting Poznan 27 Sep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tele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2464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ter meetings &amp; visits: correlator, protocols, i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2464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for sharing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2464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exploder with some external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0"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buClr>
                <a:srgbClr val="000000"/>
              </a:buClr>
              <a:buFont typeface="Times New Roman"/>
              <a:buChar char="•"/>
              <a:tabLst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work package structure quite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754-EFEC-4484-89C2-CEE2C92703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31C23-4522-433F-9AB6-95B25D4EF3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halleng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hurdle for data ac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OB rather drastic new development 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investment in existing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s took some time, purchases ev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cquisition dependent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dge the gap between eVLBI and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several iterations and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s with variety of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trong 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5B0-2075-4961-8AF5-47DB2AB89A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75BD8-B8E7-4AED-A0B3-F7FCBDCF54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ersonnel issu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ck-off in March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start at Poznan and partially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ost-doc level people JIVE took 6 &amp; 9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JBO digital engineer is shared with S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person only available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 of the work done by ‘matching’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for the design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manager is now also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ely delayed the integrated design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A1D-7785-4049-8729-C055452480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F0C71-CE1C-43D0-8509-AA7B190979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ileston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066680"/>
          <a:ext cx="8534160" cy="5024520"/>
        </p:xfrm>
        <a:graphic>
          <a:graphicData uri="http://schemas.openxmlformats.org/drawingml/2006/table">
            <a:tbl>
              <a:tblPr/>
              <a:tblGrid>
                <a:gridCol w="1260360"/>
                <a:gridCol w="3235320"/>
                <a:gridCol w="914400"/>
                <a:gridCol w="822240"/>
                <a:gridCol w="952560"/>
                <a:gridCol w="1349280"/>
              </a:tblGrid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cquisition requirements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cols strategic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ualization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lator design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 design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-Grid design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 fringes PC-EV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FAR connection strategic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TR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cquisition design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LBI-Grid interface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FDA-C6C5-43C7-AE48-7F8E72E4FA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821E2-98EF-468A-BD1F-641F56D6E6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uture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rays of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oadband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dio-telescopes on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nternet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mput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4956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0" rIns="0" tIns="0" bIns="0" anchor="t">
            <a:normAutofit/>
          </a:bodyPr>
          <a:p>
            <a:pPr marL="26676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8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cquisition to work with 10Gbps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1720" indent="-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new filtering and sampling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8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8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bration issues and control software interface to tele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8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s from public domain transport to “priva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1720" indent="-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1720" indent="-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M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84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sala telescope on e-M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00600" y="1828800"/>
            <a:ext cx="4038480" cy="44956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0" rIns="0" tIns="0" bIns="0" anchor="t">
            <a:normAutofit/>
          </a:bodyPr>
          <a:p>
            <a:pPr marL="26676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764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Grid for calculating correlatio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virtual lab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flow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764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able software corre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evious Huygens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itable for Grid nodes and parallel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quality control, display and me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81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station demon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764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new science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77320" y="1219320"/>
            <a:ext cx="914400" cy="99036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1295280"/>
            <a:ext cx="914400" cy="99072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B10-82A2-41CE-B3B1-31ACCA0F74FE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CF6AB-9E87-43EC-9764-FAAA9D2C36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Data acquisi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formu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e complex decision to be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ing: Mk5 and PCEVN system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: dBBC and DBE 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tibility with corre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-MERLIN in/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O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BreakOut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GA and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10 G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 converter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+D into radically different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581280" cy="2554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10280" y="53352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M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43A-4E4A-469E-906D-F214B8594A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D874A-D3BD-4A5E-A789-8E8D03C6FC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-MERLIN interfa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4Gbps streams (Onsa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eed into e-MERLIN corre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tible to MERLIN channe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rchitecture as MERLIN out (SA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s data-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sta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or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with S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53000" y="3581280"/>
            <a:ext cx="5391000" cy="266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7010280" y="53352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Uni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E47-054B-492C-A345-E7B7AF761B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B1674-C27E-49C6-B764-0B8E0F6679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tocol research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testb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ange of controls in e.g. drop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ad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 certainly not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more prom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I-E needs mor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CP not robust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contributed effort by Uni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 available for FABRIC work later this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ring more specific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c discussion document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419360" cy="230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10280" y="53352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.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Uni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509-3685-4A69-B5FA-4C33CF629B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60F76-3914-48CB-B8BD-35A584A4A4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esting Onsala/7 month demo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ala will do 4Gbps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ing the e-MERLIN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upgrade under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PC-EV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at hig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sun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Metsäh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 at 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useful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53352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.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4648320" cy="3486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ADC-0F46-4800-A340-48F82DF731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3EC00-3240-4C57-9A9F-55E4F45C9C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LOFAR connectivit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e-MER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LOFAR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ublic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for clock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s sta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c doc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419720" y="4572000"/>
          <a:ext cx="4560840" cy="16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572000"/>
                    <a:ext cx="45608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105520" y="4572000"/>
            <a:ext cx="1699920" cy="127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8459" t="23937" r="17277" b="26205"/>
          <a:stretch/>
        </p:blipFill>
        <p:spPr>
          <a:xfrm>
            <a:off x="4952880" y="533520"/>
            <a:ext cx="3886200" cy="3722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4400" y="4876920"/>
            <a:ext cx="129528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1.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AS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685-460C-48F8-BEF2-55E3DD954D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D617E-D51C-4A26-83F5-F97761A21F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tributed correl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currently in dedicated sili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purpos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2 bi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100 T-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needs at 20 P-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one on custom computers with 1op=1f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ing science demo would take a few cluster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correlation can outperform 2 bit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5486400" cy="385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19840" y="228600"/>
            <a:ext cx="2059200" cy="2743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midterm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BFC-DEFE-4E01-82B1-5B74D11255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69F4A-657A-4EB8-B608-F5925446B7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VLBI-Grid collabor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elescopes and correlator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deployed 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virtual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d a lot of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NC group new to VL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VE group new to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9 documents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: resourc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with data from Mk5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ed next 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flow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correlato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152280"/>
            <a:ext cx="1295640" cy="1371600"/>
          </a:xfrm>
          <a:prstGeom prst="ellipse">
            <a:avLst/>
          </a:prstGeom>
          <a:solidFill>
            <a:srgbClr val="189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WP 2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PS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899320" y="1905120"/>
            <a:ext cx="3244680" cy="3657600"/>
          </a:xfrm>
          <a:prstGeom prst="rect">
            <a:avLst/>
          </a:prstGeom>
          <a:ln w="1584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FCF-1F56-4DB9-ABE4-18E6CE4F95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70F22-012B-44A7-ABDE-50CC9BBD4C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yun</cp:lastModifiedBy>
  <dcterms:modified xsi:type="dcterms:W3CDTF">2007-04-16T18:45:3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